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B83C-F54C-41FA-ACB3-F4326F75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ABAA-DB91-41AF-8597-C67C4391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483-B39E-435B-BD30-A0657F3E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500-AF3C-4B6A-B10D-C9267F72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B9C-3ACA-4A9A-A133-7F614B43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0DFD-F9B9-41FC-B722-01CB5B6E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7FF6-F672-4039-9A25-CB444E0F0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5F8-B084-4BF9-8EEB-FF7242F3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1DBC-069C-403F-8818-AF8952DB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7DEC-8070-4900-861A-62303E29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5E4F-02BA-46A2-9F1D-AFE2B056D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0688-5384-407F-AC2E-60E7D000F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AF9-47CC-4A94-92BF-5A943EF5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DAFB-0748-408F-8F4C-84940771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63C-98EF-4EE4-9D04-16A4FB5A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229-0A1F-4682-8CBA-47D60E8E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6696-201E-4F0A-B4C7-31C3B511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103D-4888-42D8-8307-66CFF875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3372-EC8F-41A6-87BA-4A8B1CAF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2FF4-8984-48BC-9985-BD0F3DAAA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8C68-6A96-46E3-A528-D244FE2A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C306-F6B7-4859-82DF-1D0B5298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5F8-FF3F-42A0-A41A-1FB9EE22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2565-F89B-4937-BF60-E19974C78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E2B9-C5AD-4FCA-A2ED-4D8EFF25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AB4B-BCB5-4CA2-A0F3-FE0239F2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5160-2874-41A0-9C12-0D0A9400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B9E3-0062-42A6-AF6B-560C4698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569-3042-4565-8113-A11C2BE9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3DE-A3AE-47D1-A7A4-EAB0AE83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4532-459B-4DF5-B5C3-3DAF0AEB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953-1F46-48B1-8A19-D9201111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E9C7-AFB0-4C1B-9EA8-295C4380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629-CEF5-4074-9691-EA741AF8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5C3-B16C-4371-B0EF-D84F5D11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A4B-1952-4E0D-BB43-D1996B30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058-8B23-404C-9669-BC1F5CFC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621-EFC4-4203-8A71-0372F9F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4B2-5647-483C-89C8-627D8ECE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89C-8AC8-4FD1-ACDC-63C4D94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643-CE25-46E7-A895-5499C011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344-4F4A-408A-842C-40D15555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71A-FF47-4ED2-9164-3768D4A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54E-EC9E-4663-81AF-28641BA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B26-DF06-410D-AC6A-0C449BC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FA61-2238-480D-83AA-02CC4CEFF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IDENTIFY TIME PERIOD 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TH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un this in "slide show"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erConfed1815"/>
          <p:cNvPicPr/>
          <p:nvPr/>
        </p:nvPicPr>
        <p:blipFill>
          <a:blip r:embed="rId1"/>
          <a:stretch/>
        </p:blipFill>
        <p:spPr>
          <a:xfrm>
            <a:off x="2962440" y="152280"/>
            <a:ext cx="3767040" cy="5720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95480" y="4419720"/>
            <a:ext cx="3886200" cy="152388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olyAlliance1815"/>
          <p:cNvPicPr/>
          <p:nvPr/>
        </p:nvPicPr>
        <p:blipFill>
          <a:blip r:embed="rId1"/>
          <a:stretch/>
        </p:blipFill>
        <p:spPr>
          <a:xfrm>
            <a:off x="2917800" y="76320"/>
            <a:ext cx="3932280" cy="5786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895480" y="4419720"/>
            <a:ext cx="4038840" cy="152388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505320" y="4038480"/>
            <a:ext cx="761760" cy="152640"/>
          </a:xfrm>
          <a:prstGeom prst="rect">
            <a:avLst/>
          </a:prstGeom>
          <a:solidFill>
            <a:srgbClr val="f0e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KISH_16_372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NapsEmp"/>
          <p:cNvPicPr/>
          <p:nvPr/>
        </p:nvPicPr>
        <p:blipFill>
          <a:blip r:embed="rId1"/>
          <a:stretch/>
        </p:blipFill>
        <p:spPr>
          <a:xfrm>
            <a:off x="1971720" y="15228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2666880" y="4267080"/>
            <a:ext cx="1143000" cy="22860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743200" y="4572000"/>
            <a:ext cx="1295280" cy="30492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743200" y="4952880"/>
            <a:ext cx="1523880" cy="30492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952880" y="4191120"/>
            <a:ext cx="1295640" cy="30456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905120" y="5486400"/>
            <a:ext cx="5029200" cy="9144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arisCommune"/>
          <p:cNvPicPr/>
          <p:nvPr/>
        </p:nvPicPr>
        <p:blipFill>
          <a:blip r:embed="rId1"/>
          <a:stretch/>
        </p:blipFill>
        <p:spPr>
          <a:xfrm>
            <a:off x="2316240" y="241200"/>
            <a:ext cx="4510080" cy="6375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971800" y="4495680"/>
            <a:ext cx="1143000" cy="381240"/>
          </a:xfrm>
          <a:prstGeom prst="rect">
            <a:avLst/>
          </a:prstGeom>
          <a:solidFill>
            <a:srgbClr val="d8e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05520" y="4495680"/>
            <a:ext cx="1371600" cy="381240"/>
          </a:xfrm>
          <a:prstGeom prst="rect">
            <a:avLst/>
          </a:prstGeom>
          <a:solidFill>
            <a:srgbClr val="d8e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86000" y="5715000"/>
            <a:ext cx="4572000" cy="9144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artitionPoland"/>
          <p:cNvPicPr/>
          <p:nvPr/>
        </p:nvPicPr>
        <p:blipFill>
          <a:blip r:embed="rId1"/>
          <a:stretch/>
        </p:blipFill>
        <p:spPr>
          <a:xfrm>
            <a:off x="2876400" y="420840"/>
            <a:ext cx="3389400" cy="6016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743200" y="380880"/>
            <a:ext cx="1295280" cy="16765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038480" y="380880"/>
            <a:ext cx="1295640" cy="16765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34120" y="380880"/>
            <a:ext cx="1295280" cy="16765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743200" y="6095880"/>
            <a:ext cx="3581280" cy="38124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opGrwth1800-50"/>
          <p:cNvPicPr/>
          <p:nvPr/>
        </p:nvPicPr>
        <p:blipFill>
          <a:blip r:embed="rId1"/>
          <a:stretch/>
        </p:blipFill>
        <p:spPr>
          <a:xfrm>
            <a:off x="2428920" y="0"/>
            <a:ext cx="461160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590920" y="457200"/>
            <a:ext cx="990360" cy="13716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5181480"/>
            <a:ext cx="4724280" cy="12193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QuadAlliance1815"/>
          <p:cNvPicPr/>
          <p:nvPr/>
        </p:nvPicPr>
        <p:blipFill>
          <a:blip r:embed="rId1"/>
          <a:stretch/>
        </p:blipFill>
        <p:spPr>
          <a:xfrm>
            <a:off x="2451240" y="0"/>
            <a:ext cx="4446360" cy="655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124080" y="4495680"/>
            <a:ext cx="1067040" cy="228600"/>
          </a:xfrm>
          <a:prstGeom prst="rect">
            <a:avLst/>
          </a:prstGeom>
          <a:solidFill>
            <a:srgbClr val="f0d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438280" y="5029200"/>
            <a:ext cx="4496040" cy="16002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Revs30_48"/>
          <p:cNvPicPr/>
          <p:nvPr/>
        </p:nvPicPr>
        <p:blipFill>
          <a:blip r:embed="rId1"/>
          <a:stretch/>
        </p:blipFill>
        <p:spPr>
          <a:xfrm>
            <a:off x="990720" y="307800"/>
            <a:ext cx="7238880" cy="6309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752480" y="685800"/>
            <a:ext cx="1143000" cy="304920"/>
          </a:xfrm>
          <a:prstGeom prst="rect">
            <a:avLst/>
          </a:prstGeom>
          <a:solidFill>
            <a:srgbClr val="afd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752480" y="990720"/>
            <a:ext cx="1143000" cy="380880"/>
          </a:xfrm>
          <a:prstGeom prst="rect">
            <a:avLst/>
          </a:prstGeom>
          <a:solidFill>
            <a:srgbClr val="afd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14400" y="5410080"/>
            <a:ext cx="7391520" cy="129564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RussCW"/>
          <p:cNvPicPr/>
          <p:nvPr/>
        </p:nvPicPr>
        <p:blipFill>
          <a:blip r:embed="rId1"/>
          <a:stretch/>
        </p:blipFill>
        <p:spPr>
          <a:xfrm>
            <a:off x="0" y="333360"/>
            <a:ext cx="8991720" cy="6087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105520" y="4495680"/>
            <a:ext cx="106668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05520" y="4800600"/>
            <a:ext cx="106668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553080" y="4495680"/>
            <a:ext cx="106704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4800600"/>
            <a:ext cx="1295640" cy="304920"/>
          </a:xfrm>
          <a:prstGeom prst="rect">
            <a:avLst/>
          </a:prstGeom>
          <a:solidFill>
            <a:srgbClr val="e3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410080"/>
            <a:ext cx="9067680" cy="106704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26" descr="Alliances"/>
          <p:cNvPicPr/>
          <p:nvPr/>
        </p:nvPicPr>
        <p:blipFill>
          <a:blip r:embed="rId1"/>
          <a:stretch/>
        </p:blipFill>
        <p:spPr>
          <a:xfrm>
            <a:off x="533520" y="152280"/>
            <a:ext cx="8157960" cy="5407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27"/>
          <p:cNvSpPr/>
          <p:nvPr/>
        </p:nvSpPr>
        <p:spPr>
          <a:xfrm>
            <a:off x="685800" y="4952880"/>
            <a:ext cx="7848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1219320" y="4572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1219320" y="7621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30"/>
          <p:cNvSpPr/>
          <p:nvPr/>
        </p:nvSpPr>
        <p:spPr>
          <a:xfrm>
            <a:off x="1219320" y="106668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RussSerfs"/>
          <p:cNvPicPr/>
          <p:nvPr/>
        </p:nvPicPr>
        <p:blipFill>
          <a:blip r:embed="rId1"/>
          <a:stretch/>
        </p:blipFill>
        <p:spPr>
          <a:xfrm>
            <a:off x="2365200" y="455760"/>
            <a:ext cx="4411800" cy="5945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2286000" y="5715000"/>
            <a:ext cx="4572000" cy="76212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276720" y="990720"/>
            <a:ext cx="1600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105520" y="838080"/>
            <a:ext cx="25905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610relig"/>
          <p:cNvPicPr/>
          <p:nvPr/>
        </p:nvPicPr>
        <p:blipFill>
          <a:blip r:embed="rId1"/>
          <a:stretch/>
        </p:blipFill>
        <p:spPr>
          <a:xfrm>
            <a:off x="536400" y="241200"/>
            <a:ext cx="8069400" cy="6375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6629400" y="51814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700big"/>
          <p:cNvPicPr/>
          <p:nvPr/>
        </p:nvPicPr>
        <p:blipFill>
          <a:blip r:embed="rId1"/>
          <a:stretch/>
        </p:blipFill>
        <p:spPr>
          <a:xfrm>
            <a:off x="0" y="0"/>
            <a:ext cx="8610480" cy="6872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6708600" y="62485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altic"/>
          <p:cNvPicPr/>
          <p:nvPr/>
        </p:nvPicPr>
        <p:blipFill>
          <a:blip r:embed="rId1"/>
          <a:stretch/>
        </p:blipFill>
        <p:spPr>
          <a:xfrm>
            <a:off x="1273320" y="-914400"/>
            <a:ext cx="7184880" cy="9296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286000" y="76320"/>
            <a:ext cx="182880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4648320" y="1905120"/>
            <a:ext cx="114300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4952880" y="3048120"/>
            <a:ext cx="106704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4114800" y="4038480"/>
            <a:ext cx="114300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h18_c"/>
          <p:cNvPicPr/>
          <p:nvPr/>
        </p:nvPicPr>
        <p:blipFill>
          <a:blip r:embed="rId1"/>
          <a:stretch/>
        </p:blipFill>
        <p:spPr>
          <a:xfrm>
            <a:off x="-457200" y="-457200"/>
            <a:ext cx="9601200" cy="7361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828800" y="6095880"/>
            <a:ext cx="5257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1900big"/>
          <p:cNvPicPr/>
          <p:nvPr/>
        </p:nvPicPr>
        <p:blipFill>
          <a:blip r:embed="rId1"/>
          <a:stretch/>
        </p:blipFill>
        <p:spPr>
          <a:xfrm>
            <a:off x="609480" y="20520"/>
            <a:ext cx="8568000" cy="68374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965400" y="61722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KISH_17_399"/>
          <p:cNvPicPr/>
          <p:nvPr/>
        </p:nvPicPr>
        <p:blipFill>
          <a:blip r:embed="rId1"/>
          <a:stretch/>
        </p:blipFill>
        <p:spPr>
          <a:xfrm>
            <a:off x="1976400" y="152280"/>
            <a:ext cx="5311800" cy="6705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905120" y="6019920"/>
            <a:ext cx="5410080" cy="83808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ap36wiieve"/>
          <p:cNvPicPr/>
          <p:nvPr/>
        </p:nvPicPr>
        <p:blipFill>
          <a:blip r:embed="rId1"/>
          <a:stretch/>
        </p:blipFill>
        <p:spPr>
          <a:xfrm>
            <a:off x="533520" y="450720"/>
            <a:ext cx="7848360" cy="5797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7162920" y="609480"/>
            <a:ext cx="990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667960" y="62485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: Eve of WW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ap38postcw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121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805480" y="56358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: Post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rManuf"/>
          <p:cNvPicPr/>
          <p:nvPr/>
        </p:nvPicPr>
        <p:blipFill>
          <a:blip r:embed="rId1"/>
          <a:stretch/>
        </p:blipFill>
        <p:spPr>
          <a:xfrm>
            <a:off x="2365200" y="455760"/>
            <a:ext cx="4411800" cy="5945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2971800" y="9144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666880" y="5867280"/>
            <a:ext cx="3886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14m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4114800" y="5943600"/>
            <a:ext cx="167652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14m02"/>
          <p:cNvPicPr/>
          <p:nvPr/>
        </p:nvPicPr>
        <p:blipFill>
          <a:blip r:embed="rId1"/>
          <a:stretch/>
        </p:blipFill>
        <p:spPr>
          <a:xfrm>
            <a:off x="-76320" y="122400"/>
            <a:ext cx="9404640" cy="6984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28600" y="304920"/>
            <a:ext cx="1523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15m01"/>
          <p:cNvPicPr/>
          <p:nvPr/>
        </p:nvPicPr>
        <p:blipFill>
          <a:blip r:embed="rId1"/>
          <a:stretch/>
        </p:blipFill>
        <p:spPr>
          <a:xfrm>
            <a:off x="4356000" y="0"/>
            <a:ext cx="48672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04920" y="2590920"/>
            <a:ext cx="4114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therl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78–16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495680" y="152280"/>
            <a:ext cx="2743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15m02"/>
          <p:cNvPicPr/>
          <p:nvPr/>
        </p:nvPicPr>
        <p:blipFill>
          <a:blip r:embed="rId1"/>
          <a:stretch/>
        </p:blipFill>
        <p:spPr>
          <a:xfrm>
            <a:off x="533520" y="1022400"/>
            <a:ext cx="7924680" cy="5834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1676520" y="3505320"/>
            <a:ext cx="3045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in 16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olonies"/>
          <p:cNvPicPr/>
          <p:nvPr/>
        </p:nvPicPr>
        <p:blipFill>
          <a:blip r:embed="rId1"/>
          <a:stretch/>
        </p:blipFill>
        <p:spPr>
          <a:xfrm>
            <a:off x="609480" y="168120"/>
            <a:ext cx="7772400" cy="5654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666880" y="4114800"/>
            <a:ext cx="3733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44197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23880" y="46483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819520" y="441972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819520" y="464832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191120" y="4648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191120" y="44197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486400" y="44197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781680" y="44197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5486400" y="464832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62120" y="5257800"/>
            <a:ext cx="7467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rimean"/>
          <p:cNvPicPr/>
          <p:nvPr/>
        </p:nvPicPr>
        <p:blipFill>
          <a:blip r:embed="rId1"/>
          <a:stretch/>
        </p:blipFill>
        <p:spPr>
          <a:xfrm>
            <a:off x="2362320" y="457200"/>
            <a:ext cx="4411440" cy="5945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4648320" y="609480"/>
            <a:ext cx="685800" cy="304920"/>
          </a:xfrm>
          <a:prstGeom prst="rect">
            <a:avLst/>
          </a:prstGeom>
          <a:solidFill>
            <a:srgbClr val="f2a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362320" y="5791320"/>
            <a:ext cx="4419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 Europe1990"/>
          <p:cNvPicPr/>
          <p:nvPr/>
        </p:nvPicPr>
        <p:blipFill>
          <a:blip r:embed="rId1"/>
          <a:stretch/>
        </p:blipFill>
        <p:spPr>
          <a:xfrm>
            <a:off x="1227240" y="1268280"/>
            <a:ext cx="6689520" cy="432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371600" y="5029200"/>
            <a:ext cx="6400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447920" y="1371600"/>
            <a:ext cx="17524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UR1815"/>
          <p:cNvPicPr/>
          <p:nvPr/>
        </p:nvPicPr>
        <p:blipFill>
          <a:blip r:embed="rId1"/>
          <a:stretch/>
        </p:blipFill>
        <p:spPr>
          <a:xfrm>
            <a:off x="1285920" y="631800"/>
            <a:ext cx="6572160" cy="5594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371600" y="5715000"/>
            <a:ext cx="6477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xpanPruss"/>
          <p:cNvPicPr/>
          <p:nvPr/>
        </p:nvPicPr>
        <p:blipFill>
          <a:blip r:embed="rId1"/>
          <a:stretch/>
        </p:blipFill>
        <p:spPr>
          <a:xfrm>
            <a:off x="-4680" y="612720"/>
            <a:ext cx="9155160" cy="56307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52280" y="5867280"/>
            <a:ext cx="4343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33520" y="6858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33520" y="106668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33520" y="13716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33520" y="175248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33520" y="21337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rRevBound"/>
          <p:cNvPicPr/>
          <p:nvPr/>
        </p:nvPicPr>
        <p:blipFill>
          <a:blip r:embed="rId1"/>
          <a:stretch/>
        </p:blipFill>
        <p:spPr>
          <a:xfrm>
            <a:off x="2625840" y="152280"/>
            <a:ext cx="3892320" cy="6553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200400" y="4267080"/>
            <a:ext cx="9144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200400" y="4572000"/>
            <a:ext cx="10666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00400" y="48006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029200" y="44197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590920" y="5562720"/>
            <a:ext cx="3962160" cy="1143000"/>
          </a:xfrm>
          <a:prstGeom prst="rect">
            <a:avLst/>
          </a:prstGeom>
          <a:solidFill>
            <a:srgbClr val="ab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4:39:21Z</dcterms:created>
  <dc:creator>Susan Gregory</dc:creator>
  <dc:description/>
  <dc:language>en-US</dc:language>
  <cp:lastModifiedBy>Sue Gregory</cp:lastModifiedBy>
  <dcterms:modified xsi:type="dcterms:W3CDTF">2008-05-08T05:55:45Z</dcterms:modified>
  <cp:revision>85</cp:revision>
  <dc:subject/>
  <dc:title>EURO MAPS</dc:title>
</cp:coreProperties>
</file>